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5AE6-16BC-4EF5-B29C-5F3BE0EA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C9DB-3DAD-4787-A356-89501FCB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384-0A7C-4845-96A8-7758B634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A9D-1BF7-4A0C-993C-4B475831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1BC4-EC67-40E7-ACEF-53660F61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37D3-6A51-4C45-9D48-7BA66A7F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452A-EFF8-4941-97A5-5BC455E7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D4DF-5907-4EAC-B11E-8249B3B7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AE19-B92B-477C-93BD-5B31495A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ACD3-9BAB-4FE5-803D-F7C031AC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BD37-4259-405F-B093-9214E720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F064-DA33-4123-B099-FB230154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B895-A7F4-4753-A92B-FDFEA328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31F9-0670-421D-A016-225E27D9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5E5B-E6B3-4127-AAC9-6639E5DE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669D-D45E-4ADC-8971-68EB8F46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A360-CAF9-4381-AAE4-7C6477A8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5270-DD0C-4029-83B6-2B67F64D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998-9AD7-4927-89BF-B1B04504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0F4A-5170-403F-A29F-D1A6B80E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F4D1-FD72-4233-8776-B35F1165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B91-F1A9-401F-81A6-144F26EB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B88-40C4-41D5-A636-896DE741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4013-42ED-4CA8-942A-98413DBA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92B3-46A6-4664-8608-CA59F1A9EA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9574-F1C0-48D7-9FAF-8FC66BB9A8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gotvach.bg/n8-12004-&#1057;&#1086;&#1083;" TargetMode="External"/><Relationship Id="rId6" Type="http://schemas.openxmlformats.org/officeDocument/2006/relationships/hyperlink" Target="http://gotvach.bg/n7-18247-&#1041;&#1088;&#1072;&#1096;&#1085;&#1086;" TargetMode="External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5900760" cy="1079640"/>
          </a:xfrm>
          <a:prstGeom prst="rect">
            <a:avLst/>
          </a:prstGeom>
          <a:solidFill>
            <a:srgbClr val="f2acb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 СЕ ХРАНИ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842920" y="5229000"/>
            <a:ext cx="6194520" cy="10587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ЗДРАВОСЛОВ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2590920" cy="1492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492360" y="911520"/>
            <a:ext cx="3949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елтъчини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яйц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чаша мляко - кисело или прясно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грама пъстърв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грама пилешко месо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грама - боб, леща, сурови ядки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еленчуци и плодов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грама краставици или домат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 грама спанак, лапад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ябълка, круш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2 грейпфрут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ъглехидрат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филия пълнозърнест хляб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грама макарони /паста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грама ориз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грама картоф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бан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867280" y="5300640"/>
            <a:ext cx="3171960" cy="1438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2997360"/>
            <a:ext cx="2286000" cy="1904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116000" y="4971960"/>
            <a:ext cx="2419200" cy="1886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350880" y="18900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невно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5280" y="4365720"/>
            <a:ext cx="4032360" cy="2120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59280" y="1548000"/>
            <a:ext cx="5329080" cy="2838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рани се правилно и здравословно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нно храната е източника на енергия за нашето тя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ички хранителни вещества, които поемам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магат на организма ни 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ункционира правилно и да бъде здрав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2054160" cy="2735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292720" y="4581360"/>
            <a:ext cx="3382920" cy="2187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97280" y="6400800"/>
            <a:ext cx="52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ра Атанасова СОУ”Екзарх Антим І” Казанлъ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04036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а нарече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Пирамида на здравословното хранене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казва приблизително съотношението между храните от всяка груп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обходими на организма 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поръчва се да наблягаме на храните от основата на пирамид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да приемаме по-малко от тези към върха й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68800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знин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знините съдържат мастноразтворими витамини и осигуряват важни за клетъчната структура мастни киселини. Все пак не е препоръчително мазнините да бъдат повече от 30-35% от общите калории. За предпочитане са мазнини от тлъсти риби, пресни ядки, житни продукти, студено-пресовани масл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508720" y="3500280"/>
            <a:ext cx="3166920" cy="2494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700360" y="51148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95280" y="3284640"/>
            <a:ext cx="223380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03640" y="465300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156360" y="4221000"/>
            <a:ext cx="2590920" cy="1762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55640" y="4076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76720" y="1399320"/>
            <a:ext cx="482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хар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 сочена за една от трите бели отрови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сол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ха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брашно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ри и знаейки това, хор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 хилядолетия консумират зах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ото сладкият вкус е много по-прияте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амлив и предпочитан от горчи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-66600" y="262080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-66600" y="2620800"/>
            <a:ext cx="190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76360" y="4005360"/>
            <a:ext cx="6696000" cy="243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16000" y="1036800"/>
            <a:ext cx="7488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ленчуци и плодов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 са безценен източник на витами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нерали и фибри. Хапвайте различни видове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реноплодни, листни, стеблени зеленчуци и плодо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бирайте си и различни цветове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ки от този пигмент е различно полезно веще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апвайте 2-4 порции плодове и 3-5 зеленчуци дневн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1508040"/>
            <a:ext cx="3276360" cy="2424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08360" y="1269000"/>
            <a:ext cx="518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лтъчини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теините са жизнено необходими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ежа и възстановяването на клетк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образуването на ензими и хормо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обновяването на клетк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всички възрастови груп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Ще ги намерите в птичето и по-крехкото мес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бата, яйцата, млечни произвед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бовите растения, ядк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сумирайте 4-6 порции дневно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55640" y="4141800"/>
            <a:ext cx="4032360" cy="2333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331344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843560"/>
            <a:ext cx="450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ъглехидрати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 неотменим елем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всички храни и главен доставч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енергия за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5111640" cy="2473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12000" y="1484280"/>
            <a:ext cx="2609640" cy="216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508720" y="3860640"/>
            <a:ext cx="30733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14:13:45Z</dcterms:created>
  <dc:creator>Home</dc:creator>
  <dc:description/>
  <dc:language>en-US</dc:language>
  <cp:lastModifiedBy>Home</cp:lastModifiedBy>
  <dcterms:modified xsi:type="dcterms:W3CDTF">2013-04-20T15:16:32Z</dcterms:modified>
  <cp:revision>2</cp:revision>
  <dc:subject/>
  <dc:title>ДА СЕ ХРАНИМ </dc:title>
</cp:coreProperties>
</file>